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B9F9-5CD6-4138-8C45-3A0013141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ing resource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an agent is too “fat” to migrate onto a particular no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co-proc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ster scenario: coordinating things all over the country or world.  Involves many different organiz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ve nature of service-oriented paradigm is important: Scripts just declare what they want, and the system finds the services that fulfill these n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 Rock does not support dynamic application deploym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Web and IrisNet do not focus on computing within SensorNets or application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et does not have service provisioning for dynamic service binding. Tenet scripts assume that the instructions they execute exist.  The current implementation of Tenet assumes a homogeneous platform -- all instructions provided are kn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te version of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05F-48C5-4540-90E5-741F2F6C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323-8ED8-4D7D-B01C-BC193155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E9B-43D5-4111-BFA2-783F34C8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8F0-35DF-4C74-BDF9-C0F42B2C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672-AAFD-4C4F-83F8-F068C0CF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E54-F5A2-4308-9D7B-69D15FA7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553-25D5-4435-AFD3-529AC5A3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96F-12E6-4728-8F71-D9A96A54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948-FA5F-4F38-9C99-02BA9B10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9EC-2CAE-4AC4-BC40-CBE2200E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7A2-05B3-4CCD-9694-070D428C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A949-9DF9-44CD-BCBC-09DC7F06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B1AC-1D36-4D82-B457-00C19EC30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ards a Flexible Global Sensing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505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n-Liang Fok, Gruia-Catalin Roman, and Chenyang 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5638680"/>
            <a:ext cx="551196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4C8-0725-4E39-BC85-E75BECBEEA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Resourc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service for concurren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resourc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ery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F65-F07C-476B-99A9-E8E7E57E0D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Run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&amp; intra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must react to changes in thei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range of event types, sources, priorities, and usage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resources prevent hosting every service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ervice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/local persistent/transient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1F0-EBCE-47F2-95F5-46D7F6D788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Descripti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23760" y="4038480"/>
            <a:ext cx="7748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requi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reDete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 serv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rv; // a handle to the servic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 void main(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 bind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GER | PERSISTENT, THREE_HOP, serv, Fire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nErr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    while (true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         migrat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RandomNeighbor(), STRO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Fi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k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nErr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     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6080" y="2184480"/>
            <a:ext cx="225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ype = sens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 = temper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nits = Celsiu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rror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±0.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B2B-94A8-443D-90E1-918E29622A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029200" cy="426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Agilla’s VM to support mobile scripts &amp; service in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a service provision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 on Tmote Sky test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DFC-B046-42FA-B1CA-ED11C4AF7E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SensorNets are evolving into a G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software architecture is required for building flexible GSI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proposed three-tiered service-oriented computing archite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platform-independent mobil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level platform-depend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allenges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24A-A0B7-459A-AC79-CB994FB393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Nets are evol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oftware architecture does not easily facil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ing global sensing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50800" y="237816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-scal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ogeneo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-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37816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-scal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erogeneo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91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8360" y="344484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ing Sensor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53400" y="34448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global sens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 (GS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60676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ving 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24A-9E3F-4E89-BACE-853EEA09FD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Sensing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lection of sensors, microservers, base stations, and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and continuously ev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by man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258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732-3FF2-4AFE-9A2B-87FA2FDC16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Examp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upply chain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 attached to products, cargo containers, loading docks, ship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fferent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disaster scenario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heterogeneous and dynami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many organizations an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program GSI to help victims and coordinate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9BA-4E3B-4EBD-9081-621D005BB7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Proposed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new software architecture based on service-oriented computing &amp; mobile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b services: global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ctive platform-independent mobile scripts: dynamic application deployment in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icient platform-dependent services: flexible servic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ve service-oriented programming paradigm enables seamless inte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application development on evolving &amp; heterogeneou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BF4-49E5-4183-9430-9E58FFFE1D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 Rock Corporation [Woo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SensorNet nodes to the external world as a web service using existing standards (WS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upport mobile scripts (dynamic deployment of apps) for programming inside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Web [Santanche et al, IPSN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portal for integrating &amp; viewing data collected from a Senso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Net [Gibbons et al, IEEE Perv. Comp.’0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ributed database for WS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et [Gnawali et al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iered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Net has a fixed and uniform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298A-3988-4671-9AB5-2754C78ED4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glass 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neidman et al.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rvard TR’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frastructure for connecting SensorNets with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s on data routing an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VM [Levis et al, NSDI’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VM with a custom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provide dynamic servic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S + DVM [Balani et al, EmSoft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M with dynamically loadable binar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binding between script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ete [Yu et al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Application support within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quality of service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09A-F002-459A-8991-EFCCCDF79B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ftwar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engine (VM for mobile scri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&amp; execution of mobil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or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managemen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CFD-65AA-4C05-A577-B850EFF336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cefully handle error conditions like when a script invokes a service that is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escripti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ct, 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o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boundary between scrip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89C-41E7-4DCE-9799-ADD1F7C892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14:55Z</dcterms:created>
  <dc:creator>Office 2004 Test Drive User</dc:creator>
  <dc:description/>
  <dc:language>en-US</dc:language>
  <cp:lastModifiedBy>Office 2004 Test Drive User</cp:lastModifiedBy>
  <dcterms:modified xsi:type="dcterms:W3CDTF">2007-04-24T08:28:09Z</dcterms:modified>
  <cp:revision>32</cp:revision>
  <dc:subject/>
  <dc:title>Towards a Flexible Global Sensing Infrastructure</dc:title>
</cp:coreProperties>
</file>